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030-7665-4B6B-BAE0-9DBF12DF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FD6-CB17-4458-9484-41F3BA00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CB58B-AE9D-400C-B168-AE939F9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5BC73-5044-48D5-976B-1CB907B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656E-535E-470F-A04F-CC9464A4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EF58B-9098-483D-B18D-C1F41EA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D9026-EFAE-4749-822A-CBF3ED2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B1CBD-3E7B-48D6-9AD1-9C13C4A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382AC-08EB-4414-9778-3BC3094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D5D6F-1FFB-4192-A562-CF600D2F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7A061-1EB9-4679-830B-7F81992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4498-8904-42A6-8256-67F71BF0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489-688A-4240-A0D1-34BEE509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308A5-F523-40F7-BA63-4F2A7434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6D3A-591E-469E-A048-C3B5E4D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71DC8-CCDD-40DE-BB5A-345BF2FC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31D22-067C-4B81-99FD-F34F178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D76BB-3DAE-4711-B8B9-E8A0599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3A95D-BA84-4E95-B262-704DA45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3AB4F-4FBE-4E54-AF62-7054116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D7F3-7942-4BEA-86A5-53CE9A76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E4355-ECA8-4FE1-AA41-76120EF4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0F12-9558-48FA-9486-8C4CDA98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3ED-791E-4858-95A1-74C1229D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D592E-F8B1-4D73-BC48-4C92898C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C4186-8DF0-4948-83AC-920D0900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0725-36D3-4D46-B923-DF0C3E3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98B9-4CBC-4B90-B50F-F1A72AA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FF66E-EB65-4335-B2CA-82E1E8F6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07D1A-8EC7-44FD-BCDD-A4A1E619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5964-C0AE-441B-AE51-24F7872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0E60F-CBFB-48D5-856A-C9D95C5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7FBCC-1B71-4355-9557-9F3D10A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CE4C-9346-4938-98AA-18450A0D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08C7-4B01-4638-9090-FA0CBBE0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8D45-3C17-4E61-A049-96E7D00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C5F6-43FF-4338-8CC6-72FDAABF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626A7-E1E7-4871-8A07-2664569F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AC73-D1F8-43B4-BE51-B08E618D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662E8-8BB5-4BB4-A612-6AE9041D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34427-1E7D-4B3D-A55B-4B6E6C4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B4B3-B9E9-4D4C-83EB-C9637154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D22A3-D538-4B01-B006-92D6A34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D016F-C06E-4B5C-9C9A-7AB3194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3E8E6-907A-4BA8-A7F7-927F2F6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D584-4088-4F41-B1BB-A337AC2B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A339B-CE0E-49CD-8261-C837B62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1612C-FE16-439C-B135-22795FD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B8228-5C29-484A-B5B3-F19BE2F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B8B13-6350-4265-A6E0-0201623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7E851-B7A9-48B5-A36D-68DA01B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384AD-DA08-4F28-9AE4-F143213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04667-2495-4F60-975B-2617F5E6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89ACB-EC3E-489A-9B4C-2F1A359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F80AE-FA20-49CE-AC30-EE8187B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9297D-CA41-4643-A421-FD83CDBE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B3E6-2C96-409F-86E8-2FD2BF2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F3207-8D5F-475B-9E8D-EF5522C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3E77D-54F1-45A1-8566-E10E902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89549-0253-4A0C-8FE3-A4BA511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F2305-0EB3-4D36-9165-0114C48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A5B82-B83C-48CF-975A-1B9CB60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8DC70-ED5A-4EC9-A749-B42EC100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EB987-261C-46B7-B8E3-619140E8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3A7D9-053A-4510-9885-3E8A68F6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07644-4E13-4016-8103-6A43BB1C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356B6-1771-4486-A745-483E02AD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341F-F831-444C-B5D8-4B84E60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DE31D-0C2E-4A14-B2EE-DADDF353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CC4A8-ACE0-4B59-ADD2-CCD6CB9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052FE-3103-40C7-B0B5-CE5FED04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79E5C-60E2-411F-9807-8CF71EC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ABC72-D949-4977-A528-E9292E3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120D8-749F-49B6-BDE7-80AD8C8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E6E56-0611-418E-9280-9B6C3BE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C1E77-DB4F-4742-B182-81BAB091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E64F8-DF6C-40E3-B130-D9683388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A07C9-9482-4611-B730-ADD1F8E5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AAA1-1C6C-4FF0-B3B2-682E1EC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A5B9C-9C97-4284-890F-B0B1FB0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8C33B-F1D7-45C9-B1EF-A23CA65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7C607-3D7A-4446-A94A-E9BFC86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250C5-603A-483A-9722-4E695C1B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42D34-9153-45B2-B7C9-6FE421D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B9E44-1053-4049-87A3-A096557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203F8-62D6-4CA6-B15C-45C060C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B54A9-5FA1-45BF-976D-64248AB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3264A-B41A-47FA-9897-90188001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8CDD2-0DC2-4DC6-81C6-54B93E50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4CB8-C971-412C-A4C0-263853FA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A0CB3-D840-4A60-B4BA-B563E489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9C5D8-A45F-4894-B3FF-EC8020A5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46A1C-FE66-435A-9A9A-F7EED36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ADA6E-3C86-40B5-88F6-C1D5466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83269-D514-4DC0-AFEE-4DB063D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F5A6B-19BE-4937-B92F-A93C8C0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8A310-1673-4C9B-BB3A-BB199AA6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579F1-0FDB-4979-9A99-1B70CDC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DEB60-A145-4E9E-9C47-50F2A0C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D2DA2-C55C-4867-A575-47A76AE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98FE-94FF-415F-BAE7-D176263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0E230-D2A3-44C9-AB9F-63440337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39C66-F13F-4ED9-8424-598B4E46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7838C-1F99-4A29-BCF6-0E78CA77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75693-3CCE-4CD3-BB7F-A4868417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D64AE-A48A-476E-B463-A86B630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D2677-ED0C-4111-846A-2C5D9CF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693DD-6203-4675-A33E-1406B01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08E73-9F36-4C62-937F-7F0E80EC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F58F8-5662-4441-8553-04C1578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5833F-E64E-439A-9C79-DA9260D8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827-C704-4979-861B-84BA326B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5CA-3EEB-4925-BFD0-98E294E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4773D-0BB7-436D-BEEF-1CF7E86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A0D82-784C-471B-9EF4-5A4C459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71B7C-3BEB-4A3B-94F0-8D7B069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8C636-43FB-41AB-A912-57388C9E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5EF6F-024B-4741-94B8-7DB4361E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88F73-5D97-4CAF-9351-DB040843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9F238-3E83-44DE-A834-97359A38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300EE-927B-408A-8BDD-5768244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E3E27-B0BB-4143-A08F-4A620E2A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A86D7-690A-4821-BCF4-31B9989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CBC-A9E6-4CF8-95B9-8D09428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5C2B3-EFC9-4E14-BBFF-CCC1A82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49834-9A07-416D-AD3B-D281AF83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24C4B-21AB-4FDA-86CB-988EA0C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55C43-5277-4844-8753-8756950D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2F468-6F92-448A-AE6F-668E3429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6EEA0-ED09-48A9-8D4B-1C1B46D8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F4C26-CB30-4F82-8F36-3745677B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B61D7-7C57-47CA-8B30-58D74BF7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AFBB7-6D04-4D74-B2FE-1E5F769B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35ACD-597F-4E14-A7E2-E57C7C8B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E9D5-A2A2-4EC2-A637-4139E694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94054-F773-40FC-8BEF-6D3E5C57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90FCA-F38B-43C7-956D-46AEA845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2EC1F-A2AA-4CF6-9497-A60A88D4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2A433-87C1-43D7-9E0C-A179F6D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34DEA-79D5-4C4F-B4E1-F541934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42697-D785-4F3F-97E7-953F04F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92E6A-3ED6-4DC1-90CB-9BA0ABEF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75518-D715-499A-89E1-5B14F8DC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BE5B5-83CE-4B43-8262-84A56A30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86A84-3E83-4A04-8B6E-2143709C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B26-7B5D-4331-B74C-EA20E59D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EFB66-3D3D-4321-8581-B01CE919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DC961-FC7F-4BD1-A600-DA0798B7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01329-68E9-4202-97A6-88BD69F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1FBA7-18B6-4E9D-A006-0235F31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4BF4A-F572-4AE2-8959-FB41D58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D621D-68CA-49A5-8992-E5435BC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FA9B0-BA22-4E49-9C27-B8E11C0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D2308-5B1B-41F7-A4BF-C1F6ED6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43860-DF47-4DBF-BDF9-5EB8612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3439E-7B2C-4DA2-A16E-2BDDE393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BBC7-F421-48B5-BE1B-C94E8CCB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61924-2417-48CC-B9B7-C2C0F5A9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E8D0F-8097-4413-AAEE-73A39460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8898F-239D-420F-9C7F-15E79EA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DB86F-1239-426A-9AB1-F871728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8FD88-27AC-49F2-AF56-BF9A295B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BCA70-AB67-415F-BA49-63B9A53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DDB89-7FF7-4A0A-8B75-D28AA8A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0C52B-15F2-4079-B9E7-25B5632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4A64B-13B8-45BC-9F21-E036D81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941D7-0342-4B44-9022-9E0A854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C3BD-51B5-47B7-A6AF-F611F35E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E542F-2257-496D-A4BB-E549E801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D7FB4-305F-4044-A1D1-49F4722E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9BAD4-E33A-4702-9D12-6F68F7E0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7A1D9-2AA1-4ABE-9BF6-2192AAF8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2F03B9-2EC9-45C8-B503-9E4C0AF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60898-364F-48F9-8514-B00345C7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C16A3-A423-455C-A376-ACACE45B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8C688-0CFC-4C5B-B992-A88887D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3E2A3-6827-4771-A18A-1307C65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D7575-CC1E-4BC6-9C87-26A3586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1F82-9E23-44AA-AF28-F4656E3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3E886-05BC-4943-937C-01A631E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AFEE2D-FAE5-4548-81F0-A903CD6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BBD101-3E9C-41D6-AF10-98E07DF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1E56C-EB4D-42BE-AE3C-C39657AB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A0E0C8-BDCC-41D7-BC20-C1E109A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5C1C7D-1361-4684-BFE4-7E7CA68F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F73D4-071E-4DBC-85F6-980BC82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1B9C23-833F-4F20-9A25-FC9D3B6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8E7057-8A89-4CCA-8F81-6C9ADE5C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E0AFF8-9BB7-4381-B1F2-3BFA87AB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1454-716A-401A-B888-B73BB877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AF0A1-0F6D-49A0-858A-BB496437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CF692-8918-4007-AD9C-0D5BDC2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95CCE1-5DF5-4F84-8BA1-EB09458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C5E7A-DA4A-461A-8FE9-B641046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5E7A2-D757-45EC-8276-0F56606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C7ACD3-6A8C-49B0-A4BC-F05DB666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64C02-1F46-4DB2-9D25-10DAB3B4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C1D8-4E6E-493E-9BCE-2FCD80E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F912-5C64-4084-8359-14ABB1B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845-27CB-4A65-84F8-CF1D5AA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4D21-03E4-4C64-A7EC-256D297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4D53-22CC-45B3-8B7A-9A7F38C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DA2C-8159-4F36-B644-9043D1A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ED3A-7CAA-4264-8920-24B1824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55AB-410B-4FF0-911F-45B6D20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A874-D258-4DD0-AEA5-7F4B66AA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2CD4-8036-4DE9-B3EA-0DF8578B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5568-370D-4F40-84FE-5B33253A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E4B2-B108-478F-9AF2-59EFDA3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5BDC-7B85-4728-B41B-D1BC3730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930-6063-45D2-BF06-A61DB65C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2D77-F60F-4C6B-BE65-51B780B2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5067-523C-45B4-A713-04443E2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6386-2D5F-41E2-B35F-3C48EDFF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25D1-8A30-41F9-8D26-A9DA87D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95F1-57B0-4851-86CE-B8C1FFE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E23D-A1A7-492E-BB64-1A14CAC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0A60-D4D7-4D3F-BE23-1ED436B0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3AD8-8DCE-4B98-8207-7915CF5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7B13-2212-4641-9ABD-D954175E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0D0E-9E45-4B11-A364-3B2BE91D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FF9-1D2A-452B-A4ED-D6B9751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A32A5-9164-4EBC-9D08-29F6F959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F0A4E-60E7-4043-AB37-64303999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CF99-573C-4089-8831-FE6042B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71A4-15DC-4A5F-8D9F-489E9BA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BDFA-DFB8-4E77-8A22-A0BB5CA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1129-DC17-44A1-B463-73B7303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974B-2F5D-43F5-9890-50761F3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E633-E2D6-4BF6-83BD-811721D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5A78-D66A-4725-8E68-C93840F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F98A2-55AD-4A11-A16A-3FF3BB27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1AE-AE31-4360-89D5-733B037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86F5-98FC-46BE-9B56-7BCEBB31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C874-32E3-481A-A66C-BB1138FB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E3B7-A00B-4261-9CEB-B9D3F73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4C3C-9841-4CC5-B626-FE3A653C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7DE5-776D-4202-904E-CE3C5599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A784-C1BA-406E-BD6F-C9CDD31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0B66-93AF-427C-BF9B-A5DF6E12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9023-4622-486C-9581-1613072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7D59F-28A6-4474-B9DC-1F4793A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55D1-4B55-4DBF-A802-8DC52B8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DAB-66F0-471C-901D-09E7845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2F02-9B28-4811-9659-4847D3F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D4230-897B-4E25-BF03-9F67A5B5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73F6-AB51-4DF2-9A58-8D91B5A3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E18E-94ED-49AA-A313-9050D3DD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50FA-B78C-4224-B45A-66FA1F8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651D-A59C-4D4F-894D-5514E3C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0189-44F0-4C16-81EA-D110178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D8DC-AC62-4128-B6B5-FBFA327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54349-77F8-4CB1-B220-A1F51B49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337E-5B11-48B0-8FDE-37FC126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86B-05E4-44AD-B817-D9572E4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5476-F869-4C7F-A020-6F2D904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B394-799A-487D-A16B-9BBAAFA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36B3-D2CC-4B5E-A342-DD7CF22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438B0-6A6F-4504-92D8-7F2575A4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1FF8A-A4AA-43D1-89AB-7D201ED3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7AB3D-A23F-4259-87CA-F8E0ACFB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57EF-3645-44EA-9A8F-F43E77F0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8AF0-B457-4364-905F-9EC8E314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2C57-DE9E-4A73-A77E-53EACC9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9FF8C-8EF9-47CC-9B58-1CC5253F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A8D-5F7D-4A19-B7A5-C8A31319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8A71-C9FB-4A59-95D4-7A90A36C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25AD-D1D5-4C05-A39A-7423BC6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D2C13-5C27-4E07-9B8F-2CDB346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4EB63-1647-4CCC-8410-CB6D3B4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1061-8EE0-48F7-A6E3-35DFE0B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EAB5-3FB5-45A1-BC14-54C2CE17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8A4F-BFDE-44AB-9BB4-52E66E12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FC5A3-089B-41D6-8CFA-99958FAD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FED1-99A2-4F5C-832D-D860673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7F44F-2993-4CBB-A4B8-B36CC08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0811-230B-4B6F-821D-3689C56BB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CA4E-9DC3-4EEB-B2CB-316AE14398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36B2-EC51-4282-8F1C-EC9DD3A1B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281-7B7E-45E0-831C-087EBF1B1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E0C-658F-46E8-A966-E229A17AC5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BC4-32F4-4B7C-9142-B0B653087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F8B-75DA-49D1-94A1-70F2454AE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916-9B71-4F29-A654-496ACA9FBA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070-8EDB-4D07-8FAC-DC859E318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34E-9E1C-439F-8856-E777CC832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1A0-9865-48B9-B707-0D3A28DDA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E0D-5CB3-4A68-BDDF-24C66D8B2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4C8C-4EEC-4C05-AD0E-DDB5B8B9B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1CC-B0EA-4C22-AB5B-EEBA707F9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FC0-FA91-42D6-B06D-378AB8360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CDB-2600-41A6-AA67-C9762D160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75B-CDC2-4B48-96B5-EFC290CF8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722-B8EB-453A-B318-9B378FB99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E7A4-0A9F-46EE-AB3D-74C3D8B94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478-0EC5-4DE7-9D54-ED29B4E33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F3A-9FD5-40F3-AD87-81212F810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5B2C-382F-4D3F-B8FB-618E361B36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FEA-B24D-41A1-A32B-554EE1702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A6B1-163B-4D59-8EEE-CDFA90AAD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587-06C4-4D23-9B2E-1957674F6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0ED3-D790-4AFF-AE9A-2F647916A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B15D-36E0-4839-9A78-6687C0741E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7C9F-7232-4A1C-A1A5-47479C65F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527-15D2-474E-B08D-B7E7E3C81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03E-F87D-4C5F-8F92-885364047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E57-5730-4EE5-99C9-05B6111AE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C3C2-CF4B-438C-BA52-FC7B3990C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28B-6806-4AC5-9A74-7F2503F2DB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50D-B3B8-475D-A82C-A91099727D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44C-625F-409A-AB28-DEAAF39BA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BB4-B3AA-4E9B-AA14-757C05E8F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BFCF-F00D-4CC8-8554-00B1454B72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639-45A7-4BB8-9FDB-9C60B4CC0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0BA7-AFA2-418E-880C-0C55E1F4D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E35-5F04-4D3B-950A-312CD0654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056-E900-428A-A61B-CCDFF5D46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6618-BB84-43BF-B7C0-FC5E5855F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52560" y="2919240"/>
            <a:ext cx="723888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50920" y="85392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50920" y="1338120"/>
            <a:ext cx="6257880" cy="11527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6635880" y="1185840"/>
            <a:ext cx="2352600" cy="145728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120600" y="2725560"/>
            <a:ext cx="8904240" cy="3884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278136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357336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95280" y="472428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3589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04760" y="1233360"/>
            <a:ext cx="8934480" cy="43912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488880" y="2066760"/>
            <a:ext cx="2664000" cy="292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1800360" cy="2923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4500720" y="2871720"/>
            <a:ext cx="1655640" cy="292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68360" y="3654360"/>
            <a:ext cx="2087640" cy="292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3419640" y="3645000"/>
            <a:ext cx="792000" cy="2919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611280" y="4437000"/>
            <a:ext cx="2305080" cy="292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3492360" y="5229360"/>
            <a:ext cx="2305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34480" cy="2743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1403280" y="2440080"/>
            <a:ext cx="647640" cy="291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5"/>
          <a:stretch/>
        </p:blipFill>
        <p:spPr>
          <a:xfrm>
            <a:off x="2556000" y="3241800"/>
            <a:ext cx="1152360" cy="2919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6"/>
          <a:stretch/>
        </p:blipFill>
        <p:spPr>
          <a:xfrm>
            <a:off x="2843280" y="4029120"/>
            <a:ext cx="1152360" cy="291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7"/>
          <a:stretch/>
        </p:blipFill>
        <p:spPr>
          <a:xfrm>
            <a:off x="2060640" y="4417920"/>
            <a:ext cx="11523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704880" y="1262160"/>
            <a:ext cx="7734240" cy="43336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411280" y="2041560"/>
            <a:ext cx="792360" cy="2919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4199040" y="2038320"/>
            <a:ext cx="1152360" cy="291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5940360" y="2038320"/>
            <a:ext cx="863640" cy="291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3708360" y="2830680"/>
            <a:ext cx="1150920" cy="291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5508720" y="2830680"/>
            <a:ext cx="1150920" cy="291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2700360" y="3613320"/>
            <a:ext cx="1800360" cy="291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3419640" y="4413240"/>
            <a:ext cx="3600360" cy="2919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9"/>
          <a:stretch/>
        </p:blipFill>
        <p:spPr>
          <a:xfrm>
            <a:off x="2411280" y="5210280"/>
            <a:ext cx="2521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5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